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E07-774E-4135-9DA4-BCF7606C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D24-9322-40F7-91CE-5F4889A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206-B654-415C-8F88-B28C6629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5E6-5AE3-4FDA-B19A-E324690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726-4A56-46A7-A3ED-C3133C3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F89-282E-4C97-9A22-BC31E3E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43F-EF96-4C57-BCE0-DD5D31B6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E26-4D59-4CF9-ADA1-9B95E85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226-7A05-454B-93C5-CC60536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AFB-0D4A-4822-A7C9-FB6627AD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22E-59E6-4FDE-9526-EFCC5B3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6AE-B75D-430D-95B3-EEE5837F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C7AD-BB3E-48CA-A2FD-47B78AA7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4114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as frit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786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2590920" cy="190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52578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5064120"/>
            <a:ext cx="270504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7:54Z</dcterms:created>
  <dc:creator>wilsonaleah</dc:creator>
  <dc:description/>
  <dc:language>en-US</dc:language>
  <cp:lastModifiedBy>wilsonaleah</cp:lastModifiedBy>
  <dcterms:modified xsi:type="dcterms:W3CDTF">2012-04-05T14:08:17Z</dcterms:modified>
  <cp:revision>4</cp:revision>
  <dc:subject/>
  <dc:title>Las Comidas</dc:title>
</cp:coreProperties>
</file>